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.wav" ContentType="audio/x-wav"/>
  <Override PartName="/ppt/media/jeopardy1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4577-059E-433A-BB72-20BF0135E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F10C-4177-441F-8500-5D5EA64E9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4832-B0D6-41F0-B790-013AECEDD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F94C-E385-4C6D-BAAC-7F04B7D2C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D35E-D833-4364-B9F6-CBBED0057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27EC0-7D14-45D0-A658-501B12D0A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EF35-14F8-43BE-8180-78BA90EDF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6093D-FEAE-4D57-8564-15066CD5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757AE-EC94-4313-A05F-BB8BC2588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E61AB-CDB5-4247-A9F6-33FE8D41F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B366D-503D-4594-B98A-ED2DD566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8701D-92EA-4E9C-A0F0-6B9B2F9A0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731B4-A138-475C-AFCB-B8D7540CC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19DE-EC8B-4DB7-BD61-577AC604A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3597D-8C32-4286-A354-54079CE8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FD43-2EF6-408D-B79D-91469A4E1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CDEB-1CCC-4059-AAFF-0384FD20B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C1A9-0F5A-4584-94CD-75C91FF19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4164-299C-4D25-9AEB-0A9F8052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BD7-D49F-429F-A15D-0F223309E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67B2-2B0A-4BA3-8170-182A3C914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C8726-A5AB-4DE0-92FF-916841E2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9F1B-336C-40D0-A72A-CD3D6299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B82D-3C26-4914-B757-14DE7498A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1" marL="393480" indent="-151200">
              <a:spcBef>
                <a:spcPts val="1500"/>
              </a:spcBef>
              <a:buClr>
                <a:srgbClr val="a2321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2" marL="60552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3" marL="84780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4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5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6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D93AB-608B-419C-95D4-AB70397195AA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55E10-824B-4B50-B307-3DF6F198F2B7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OSMIC.WAV" TargetMode="Externa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10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" Target="slide14.xml"/><Relationship Id="rId17" Type="http://schemas.openxmlformats.org/officeDocument/2006/relationships/slide" Target="slide15.xml"/><Relationship Id="rId18" Type="http://schemas.openxmlformats.org/officeDocument/2006/relationships/slide" Target="slide16.xml"/><Relationship Id="rId19" Type="http://schemas.openxmlformats.org/officeDocument/2006/relationships/slide" Target="slide17.xml"/><Relationship Id="rId20" Type="http://schemas.openxmlformats.org/officeDocument/2006/relationships/slide" Target="slide17.xml"/><Relationship Id="rId21" Type="http://schemas.openxmlformats.org/officeDocument/2006/relationships/slide" Target="slide18.xml"/><Relationship Id="rId22" Type="http://schemas.openxmlformats.org/officeDocument/2006/relationships/slide" Target="slide20.xml"/><Relationship Id="rId23" Type="http://schemas.openxmlformats.org/officeDocument/2006/relationships/slide" Target="slide21.xml"/><Relationship Id="rId24" Type="http://schemas.openxmlformats.org/officeDocument/2006/relationships/slide" Target="slide22.xml"/><Relationship Id="rId25" Type="http://schemas.openxmlformats.org/officeDocument/2006/relationships/slide" Target="slide23.xml"/><Relationship Id="rId26" Type="http://schemas.openxmlformats.org/officeDocument/2006/relationships/slide" Target="slide24.xml"/><Relationship Id="rId27" Type="http://schemas.openxmlformats.org/officeDocument/2006/relationships/slide" Target="slide25.xml"/><Relationship Id="rId28" Type="http://schemas.openxmlformats.org/officeDocument/2006/relationships/slide" Target="slide27.xml"/><Relationship Id="rId29" Type="http://schemas.openxmlformats.org/officeDocument/2006/relationships/slide" Target="slide28.xml"/><Relationship Id="rId30" Type="http://schemas.openxmlformats.org/officeDocument/2006/relationships/slide" Target="slide29.xml"/><Relationship Id="rId31" Type="http://schemas.openxmlformats.org/officeDocument/2006/relationships/slide" Target="slide30.xml"/><Relationship Id="rId32" Type="http://schemas.openxmlformats.org/officeDocument/2006/relationships/slide" Target="slide31.xml"/><Relationship Id="rId33" Type="http://schemas.openxmlformats.org/officeDocument/2006/relationships/slide" Target="slide32.xml"/><Relationship Id="rId34" Type="http://schemas.openxmlformats.org/officeDocument/2006/relationships/audio" Target="../media/jeopardy.wav"/><Relationship Id="rId3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9840" y="1717200"/>
            <a:ext cx="1383120" cy="528120"/>
          </a:xfrm>
          <a:custGeom>
            <a:avLst/>
            <a:gdLst>
              <a:gd name="textAreaLeft" fmla="*/ 34200 w 1383120"/>
              <a:gd name="textAreaRight" fmla="*/ 1348920 w 13831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6546" h="21600">
                <a:moveTo>
                  <a:pt x="0" y="0"/>
                </a:moveTo>
                <a:lnTo>
                  <a:pt x="56546" y="0"/>
                </a:lnTo>
                <a:lnTo>
                  <a:pt x="56546" y="21600"/>
                </a:lnTo>
                <a:lnTo>
                  <a:pt x="0" y="21600"/>
                </a:lnTo>
                <a:close/>
              </a:path>
              <a:path fill="lightenLess" w="56546" h="21600">
                <a:moveTo>
                  <a:pt x="0" y="0"/>
                </a:moveTo>
                <a:lnTo>
                  <a:pt x="56546" y="0"/>
                </a:lnTo>
                <a:lnTo>
                  <a:pt x="55146" y="1400"/>
                </a:lnTo>
                <a:lnTo>
                  <a:pt x="1400" y="1400"/>
                </a:lnTo>
                <a:close/>
              </a:path>
              <a:path fill="darken" w="56546" h="21600">
                <a:moveTo>
                  <a:pt x="56546" y="0"/>
                </a:moveTo>
                <a:lnTo>
                  <a:pt x="56546" y="21600"/>
                </a:lnTo>
                <a:lnTo>
                  <a:pt x="55146" y="20200"/>
                </a:lnTo>
                <a:lnTo>
                  <a:pt x="55146" y="1400"/>
                </a:lnTo>
                <a:close/>
              </a:path>
              <a:path fill="darkenLess" w="56546" h="21600">
                <a:moveTo>
                  <a:pt x="565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146" y="20200"/>
                </a:lnTo>
                <a:close/>
              </a:path>
              <a:path fill="lighten" w="565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Know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Reading Jeopardy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78880" y="1717200"/>
            <a:ext cx="1605600" cy="528120"/>
          </a:xfrm>
          <a:custGeom>
            <a:avLst/>
            <a:gdLst>
              <a:gd name="textAreaLeft" fmla="*/ 34200 w 1605600"/>
              <a:gd name="textAreaRight" fmla="*/ 1571400 w 160560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5639" h="21600">
                <a:moveTo>
                  <a:pt x="0" y="0"/>
                </a:moveTo>
                <a:lnTo>
                  <a:pt x="65639" y="0"/>
                </a:lnTo>
                <a:lnTo>
                  <a:pt x="65639" y="21600"/>
                </a:lnTo>
                <a:lnTo>
                  <a:pt x="0" y="21600"/>
                </a:lnTo>
                <a:close/>
              </a:path>
              <a:path fill="lightenLess" w="65639" h="21600">
                <a:moveTo>
                  <a:pt x="0" y="0"/>
                </a:moveTo>
                <a:lnTo>
                  <a:pt x="65639" y="0"/>
                </a:lnTo>
                <a:lnTo>
                  <a:pt x="64239" y="1400"/>
                </a:lnTo>
                <a:lnTo>
                  <a:pt x="1400" y="1400"/>
                </a:lnTo>
                <a:close/>
              </a:path>
              <a:path fill="darken" w="65639" h="21600">
                <a:moveTo>
                  <a:pt x="65639" y="0"/>
                </a:moveTo>
                <a:lnTo>
                  <a:pt x="65639" y="21600"/>
                </a:lnTo>
                <a:lnTo>
                  <a:pt x="64239" y="20200"/>
                </a:lnTo>
                <a:lnTo>
                  <a:pt x="64239" y="1400"/>
                </a:lnTo>
                <a:close/>
              </a:path>
              <a:path fill="darkenLess" w="65639" h="21600">
                <a:moveTo>
                  <a:pt x="656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239" y="20200"/>
                </a:lnTo>
                <a:close/>
              </a:path>
              <a:path fill="lighten" w="656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Generat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453440" y="1608840"/>
            <a:ext cx="1704960" cy="808200"/>
          </a:xfrm>
          <a:custGeom>
            <a:avLst/>
            <a:gdLst>
              <a:gd name="textAreaLeft" fmla="*/ 52200 w 1704960"/>
              <a:gd name="textAreaRight" fmla="*/ 1652760 w 170496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45556" h="21600">
                <a:moveTo>
                  <a:pt x="0" y="0"/>
                </a:moveTo>
                <a:lnTo>
                  <a:pt x="45556" y="0"/>
                </a:lnTo>
                <a:lnTo>
                  <a:pt x="45556" y="21600"/>
                </a:lnTo>
                <a:lnTo>
                  <a:pt x="0" y="21600"/>
                </a:lnTo>
                <a:close/>
              </a:path>
              <a:path fill="lightenLess" w="45556" h="21600">
                <a:moveTo>
                  <a:pt x="0" y="0"/>
                </a:moveTo>
                <a:lnTo>
                  <a:pt x="45556" y="0"/>
                </a:lnTo>
                <a:lnTo>
                  <a:pt x="44156" y="1400"/>
                </a:lnTo>
                <a:lnTo>
                  <a:pt x="1400" y="1400"/>
                </a:lnTo>
                <a:close/>
              </a:path>
              <a:path fill="darken" w="45556" h="21600">
                <a:moveTo>
                  <a:pt x="45556" y="0"/>
                </a:moveTo>
                <a:lnTo>
                  <a:pt x="45556" y="21600"/>
                </a:lnTo>
                <a:lnTo>
                  <a:pt x="44156" y="20200"/>
                </a:lnTo>
                <a:lnTo>
                  <a:pt x="44156" y="1400"/>
                </a:lnTo>
                <a:close/>
              </a:path>
              <a:path fill="darkenLess" w="45556" h="21600">
                <a:moveTo>
                  <a:pt x="455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56" y="20200"/>
                </a:lnTo>
                <a:close/>
              </a:path>
              <a:path fill="lighten" w="455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imes New Roman"/>
              </a:rPr>
              <a:t>Integrating/ Evaluating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36360" y="1717200"/>
            <a:ext cx="1520280" cy="528120"/>
          </a:xfrm>
          <a:custGeom>
            <a:avLst/>
            <a:gdLst>
              <a:gd name="textAreaLeft" fmla="*/ 34200 w 1520280"/>
              <a:gd name="textAreaRight" fmla="*/ 1486080 w 15202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2151" h="21600">
                <a:moveTo>
                  <a:pt x="0" y="0"/>
                </a:moveTo>
                <a:lnTo>
                  <a:pt x="62151" y="0"/>
                </a:lnTo>
                <a:lnTo>
                  <a:pt x="62151" y="21600"/>
                </a:lnTo>
                <a:lnTo>
                  <a:pt x="0" y="21600"/>
                </a:lnTo>
                <a:close/>
              </a:path>
              <a:path fill="lightenLess" w="62151" h="21600">
                <a:moveTo>
                  <a:pt x="0" y="0"/>
                </a:moveTo>
                <a:lnTo>
                  <a:pt x="62151" y="0"/>
                </a:lnTo>
                <a:lnTo>
                  <a:pt x="60752" y="1400"/>
                </a:lnTo>
                <a:lnTo>
                  <a:pt x="1400" y="1400"/>
                </a:lnTo>
                <a:close/>
              </a:path>
              <a:path fill="darken" w="62151" h="21600">
                <a:moveTo>
                  <a:pt x="62151" y="0"/>
                </a:moveTo>
                <a:lnTo>
                  <a:pt x="62151" y="21600"/>
                </a:lnTo>
                <a:lnTo>
                  <a:pt x="60752" y="20200"/>
                </a:lnTo>
                <a:lnTo>
                  <a:pt x="60752" y="1400"/>
                </a:lnTo>
                <a:close/>
              </a:path>
              <a:path fill="darkenLess" w="62151" h="21600">
                <a:moveTo>
                  <a:pt x="62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0752" y="20200"/>
                </a:lnTo>
                <a:close/>
              </a:path>
              <a:path fill="lighten" w="62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nalyz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>
            <a:hlinkClick r:id="rId2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032640" y="1717200"/>
            <a:ext cx="1401120" cy="528120"/>
          </a:xfrm>
          <a:custGeom>
            <a:avLst/>
            <a:gdLst>
              <a:gd name="textAreaLeft" fmla="*/ 34200 w 1401120"/>
              <a:gd name="textAreaRight" fmla="*/ 1366920 w 14011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7281" h="21600">
                <a:moveTo>
                  <a:pt x="0" y="0"/>
                </a:moveTo>
                <a:lnTo>
                  <a:pt x="57281" y="0"/>
                </a:lnTo>
                <a:lnTo>
                  <a:pt x="57281" y="21600"/>
                </a:lnTo>
                <a:lnTo>
                  <a:pt x="0" y="21600"/>
                </a:lnTo>
                <a:close/>
              </a:path>
              <a:path fill="lightenLess" w="57281" h="21600">
                <a:moveTo>
                  <a:pt x="0" y="0"/>
                </a:moveTo>
                <a:lnTo>
                  <a:pt x="57281" y="0"/>
                </a:lnTo>
                <a:lnTo>
                  <a:pt x="55881" y="1400"/>
                </a:lnTo>
                <a:lnTo>
                  <a:pt x="1400" y="1400"/>
                </a:lnTo>
                <a:close/>
              </a:path>
              <a:path fill="darken" w="57281" h="21600">
                <a:moveTo>
                  <a:pt x="57281" y="0"/>
                </a:moveTo>
                <a:lnTo>
                  <a:pt x="57281" y="21600"/>
                </a:lnTo>
                <a:lnTo>
                  <a:pt x="55881" y="20200"/>
                </a:lnTo>
                <a:lnTo>
                  <a:pt x="55881" y="1400"/>
                </a:lnTo>
                <a:close/>
              </a:path>
              <a:path fill="darkenLess" w="57281" h="21600">
                <a:moveTo>
                  <a:pt x="57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881" y="20200"/>
                </a:lnTo>
                <a:close/>
              </a:path>
              <a:path fill="lighten" w="57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Apply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>
            <a:hlinkClick r:id="rId4" action="ppaction://hlinksldjump"/>
          </p:cNvPr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399680" y="1717200"/>
            <a:ext cx="1622160" cy="528120"/>
          </a:xfrm>
          <a:custGeom>
            <a:avLst/>
            <a:gdLst>
              <a:gd name="textAreaLeft" fmla="*/ 34200 w 1622160"/>
              <a:gd name="textAreaRight" fmla="*/ 1587960 w 16221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6316" h="21600">
                <a:moveTo>
                  <a:pt x="0" y="0"/>
                </a:moveTo>
                <a:lnTo>
                  <a:pt x="66316" y="0"/>
                </a:lnTo>
                <a:lnTo>
                  <a:pt x="66316" y="21600"/>
                </a:lnTo>
                <a:lnTo>
                  <a:pt x="0" y="21600"/>
                </a:lnTo>
                <a:close/>
              </a:path>
              <a:path fill="lightenLess" w="66316" h="21600">
                <a:moveTo>
                  <a:pt x="0" y="0"/>
                </a:moveTo>
                <a:lnTo>
                  <a:pt x="66316" y="0"/>
                </a:lnTo>
                <a:lnTo>
                  <a:pt x="64916" y="1400"/>
                </a:lnTo>
                <a:lnTo>
                  <a:pt x="1400" y="1400"/>
                </a:lnTo>
                <a:close/>
              </a:path>
              <a:path fill="darken" w="66316" h="21600">
                <a:moveTo>
                  <a:pt x="66316" y="0"/>
                </a:moveTo>
                <a:lnTo>
                  <a:pt x="66316" y="21600"/>
                </a:lnTo>
                <a:lnTo>
                  <a:pt x="64916" y="20200"/>
                </a:lnTo>
                <a:lnTo>
                  <a:pt x="64916" y="1400"/>
                </a:lnTo>
                <a:close/>
              </a:path>
              <a:path fill="darkenLess" w="66316" h="21600">
                <a:moveTo>
                  <a:pt x="663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916" y="20200"/>
                </a:lnTo>
                <a:close/>
              </a:path>
              <a:path fill="lighten" w="663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Organizing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5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7" action="ppaction://hlinksldjump"/>
              </a:rPr>
              <a:t>4</a:t>
            </a: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8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9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0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1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4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5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6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7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8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>
            <a:hlinkClick r:id="rId19" action="ppaction://hlinksldjump"/>
          </p:cNvPr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0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1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2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3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4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5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6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7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8f8f8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8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9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0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1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2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3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pperplate Gothic Bold"/>
              </a:rPr>
              <a:t>Double Jeopardy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Compare and contrast the main character in this selection to the main character in another selection.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Based on the selection, what would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likely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happen nex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do you know that helps you understand this selectio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best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reason to read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did the author do to make this an interesting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experience have you had that is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similar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to one of the character’s experience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pply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lesson have you learned from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part of this story could be real? Make-believe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would be another good title for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o are the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ain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characters in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Compare 2 characters in the story.  How are they alike?  How are they differen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does the main character change throughout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nalyz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In what situation would a person have feelings </a:t>
            </a:r>
            <a:r>
              <a:rPr b="0" i="1" lang="en-US" sz="5400" spc="-1" strike="noStrike">
                <a:solidFill>
                  <a:srgbClr val="f8f8f8"/>
                </a:solidFill>
                <a:latin typeface="Times New Roman"/>
              </a:rPr>
              <a:t>most similar</a:t>
            </a: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 to the main character’s feelings in the story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does the main character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likely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feel at the end of this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y did the author include pictures in this selectio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If you were the main character, what would you have done differentl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does the author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most likely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mean by _______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Generat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would the story have changed if the setting were differen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mood of the selectio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ummarize the story in your own words.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lvl="2" marL="914400">
              <a:lnSpc>
                <a:spcPct val="100000"/>
              </a:lnSpc>
              <a:buClr>
                <a:srgbClr val="f8f8f8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setting of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Is the main character a good person?  What is the evidence of that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1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If you were the author of this story, what event would you change and what would the outcome of that change be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Integrating/Evaluat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8f8f8"/>
                </a:solidFill>
                <a:latin typeface="Times New Roman"/>
              </a:rPr>
              <a:t>Evaluate the quality of this story.  What made it a good story?  What could have made the story better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at is the problem in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How was the problem solved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Knowing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o is the narrator of the story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Based on the context of the story, what does _____ mean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Based on the selection, what word </a:t>
            </a:r>
            <a:r>
              <a:rPr b="0" i="1" lang="en-US" sz="6000" spc="-1" strike="noStrike">
                <a:solidFill>
                  <a:srgbClr val="f8f8f8"/>
                </a:solidFill>
                <a:latin typeface="Times New Roman"/>
              </a:rPr>
              <a:t>best</a:t>
            </a: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 describes the main character(s)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Organizing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Which word in the selection means the same as ________?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Craig Smith</dc:creator>
  <dc:description/>
  <dc:language>en-US</dc:language>
  <cp:lastModifiedBy>Randolph County Board of Education</cp:lastModifiedBy>
  <dcterms:modified xsi:type="dcterms:W3CDTF">2003-04-28T19:25:57Z</dcterms:modified>
  <cp:revision>75</cp:revision>
  <dc:subject/>
  <dc:title>Formula Jeopardy!!!</dc:title>
</cp:coreProperties>
</file>